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FBA-1C69-429B-858A-7E05511A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EAD-06A5-441D-8ADB-7BE8818B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60B6-3486-47F6-A973-04EFE3B7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563-A064-43B1-BB9B-5B9481EB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31C-5BF0-439B-AC64-3E9EB8DF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FF9-259F-493F-9365-9057D976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DDD-2544-45B3-92AA-7E04F661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435-3590-4CE8-BB04-3189188E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A6D-5A15-4189-B55E-9E4BB8A1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329-BA88-475E-90B1-6F3567AE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995-4DE6-48CA-A338-8F6A8C45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7B13-ABDE-42A0-ADDB-DD71D446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2E28-DE1C-4E84-B644-927347EF4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Apostles’ Creed (baptismal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unity with the whole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stand and affirm the fa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to which we were bapti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Jesus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the Holy Spir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324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6 of 6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40:14Z</dcterms:created>
  <dc:creator>Anon Anon</dc:creator>
  <dc:description/>
  <dc:language>en-US</dc:language>
  <cp:lastModifiedBy>Anon Anon</cp:lastModifiedBy>
  <dcterms:modified xsi:type="dcterms:W3CDTF">2005-08-16T04:23:11Z</dcterms:modified>
  <cp:revision>19</cp:revision>
  <dc:subject/>
  <dc:title>PowerPoint Presentation</dc:title>
</cp:coreProperties>
</file>